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3AC-694E-4DA0-8EB2-79DA6B49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882-CCBA-40AF-A425-EC927EA5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0C4-BBE9-487C-B5FF-1B37019D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89F-41DB-4DBB-9445-B5F91AD9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850-F4BF-415E-B09A-F298DFFF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4C4-F9FA-4EA4-8E2D-404D52B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479-A73B-4A58-BFB1-830DB9F7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33B-F4B0-4E6A-BF13-FB7DB50E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909-095A-4AC5-9F28-362F10D8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BAD-1DAC-4A22-8CE4-0752FDD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798-96A9-4E05-886D-AB515EFD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F8E-A2D1-4CCD-96C9-F50B8A8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6638-1AA7-45B6-AB2C-77CF071EED5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43.jpg"/>
          <p:cNvPicPr/>
          <p:nvPr/>
        </p:nvPicPr>
        <p:blipFill>
          <a:blip r:embed="rId1"/>
          <a:stretch/>
        </p:blipFill>
        <p:spPr>
          <a:xfrm>
            <a:off x="1116000" y="836640"/>
            <a:ext cx="6408720" cy="48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001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بررسی لزوم تحول در روشهای زایمان بی درد جهت ارتقاء سلامت مادرا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139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مهری کلهر</a:t>
            </a:r>
            <a:r>
              <a:rPr b="0" lang="fa-IR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،</a:t>
            </a:r>
            <a:r>
              <a:rPr b="0" lang="fa-IR" sz="3200" spc="-1" strike="noStrike">
                <a:solidFill>
                  <a:srgbClr val="898989"/>
                </a:solidFill>
                <a:latin typeface="Calibri"/>
              </a:rPr>
              <a:t>دکتر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فاطمه سمیعی راد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، محبوبه گرشاسبی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، منیره محمود بابویی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kalhor20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Nazanin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زایمان یکی از مهمترین تجربه‌های زندگی هر زنی است که به دردناک بودن معروف است و این درد می تواند سبب استرس و عوارضی مانند زایمان طولانی و افزایش میزان سزارین شو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 استفاده از روش‌های مختلف بی درد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ی می تواند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به تجربه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ا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ذت بخش تبدیل کر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ر دنیا و ایران روشهای مختلفی مانند گاز نیتروس اکساید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ونکس، آروماتراپی، موزیک درمانی، بی حسی اسپاینال و اپی دورال جهت زایمان بی دردی استفاده می شو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Nazanin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طبق آمار و تجارب تجاری بالینی بیمارستانهای دوستدار مادر کاهش معنی داری در کاهش میزان سزارین دیده نمی شو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بنابراین ل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زم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ست که موانع روشهای فعلی زایمان بی درد بررسی و در صورت لزوم تحولی در روشهای بی درد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زایمان حاصل شو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Nazanin"/>
              </a:rPr>
              <a:t>مواد و روش 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341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طالعه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اضر به صورت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طعی بین سال های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39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ا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39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ر رو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0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زن باردار سالمی که جهت زایمان به بیمارستان کوثر شهر قزوین مراجعه کرده بودند انجام 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نمونه گیری به صورت ساده و در دسترس انجام 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زنان باردار در طی مرحله فعال زایمان از روشهای بی دردی رایج در بیمارستان کوثر در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گروه (انتونکس، پتدین، آروماتراپی، بی حسی اسپاینال) قرار گرف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ده ها توسط پرسشنامه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ی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رضایتمندی از بیدرد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k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کم، متوسط و زیاد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مع آوری ش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زیه و تحلیل داده ها توسط آمار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های توصیفی-تحلیلی و نرم افزا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SS. V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ورد تجزیه و تحلیل قرار گرف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Nazanin"/>
              </a:rPr>
              <a:t>نتای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تایج مطالعه نشان داد که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رصد زنان مورد مطالعه در فاز فعال زایمان تا پایان زایمان از روش بی دردی استفاده کرده ا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رصد از زنان از گاز انتونکس استفاده کرده بود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رصد از روش بی حسی اسپاینال استفاده کرد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رصد از روش آروماتراپی استفاده نمود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رصد از روش تزریق بی دردری و تسکین دهنده پتتدین استفاده کرد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یزان رضایت از روشهای مختلف ذکر شده در هر گروه در حد متوسط بود و در هیچ گروه دارای تفاوت آماری معناداری نبو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&lt;0/0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Nazanin"/>
              </a:rPr>
              <a:t>بحث و نتیجه گیر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نتایج مطالعه نشان داد که علی رغم استفاده گسترده از روشهای بی دردی در زایمان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هیچ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به دیگری برتری نداشته و نشان دهنده خلا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در استفاده از این روشها احساس می شو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با توجه به سیاست های ترویج زایمان طبیعی لزوم تحولی دقیق در این امر خطیر احساس می شو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Nazanin"/>
              </a:rPr>
              <a:t>مناب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ED NATIONS EDUCATIONAL, SCIENTIFIC AND CULTURAL ORGANIZATION. International standard Classification of Education 2010 (ISCED). Montreal. Available 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uis.unesco.org; select “Core Theme Education, Technical Guid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HEALTH ORGANIZATION (2010). International Statistical Classification of Diseases and Related Health Problems, Tenth Revision (ICD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١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Vol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Gene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ist2_796416_romantic_roses_display"/>
          <p:cNvPicPr/>
          <p:nvPr/>
        </p:nvPicPr>
        <p:blipFill>
          <a:blip r:embed="rId1"/>
          <a:stretch/>
        </p:blipFill>
        <p:spPr>
          <a:xfrm>
            <a:off x="250920" y="201600"/>
            <a:ext cx="8642160" cy="632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332720" y="981000"/>
            <a:ext cx="55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8:09:37Z</dcterms:created>
  <dc:creator>R</dc:creator>
  <dc:description/>
  <dc:language>en-US</dc:language>
  <cp:lastModifiedBy>Asus</cp:lastModifiedBy>
  <dcterms:modified xsi:type="dcterms:W3CDTF">2014-09-27T18:55:15Z</dcterms:modified>
  <cp:revision>156</cp:revision>
  <dc:subject/>
  <dc:title>Influencing factors which Increase Cesarean Section Rates in I.R.Iran: a Qualitative Study</dc:title>
</cp:coreProperties>
</file>