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  <p:sldId id="310" r:id="rId63"/>
    <p:sldId id="311" r:id="rId64"/>
    <p:sldId id="312" r:id="rId65"/>
    <p:sldId id="313" r:id="rId66"/>
    <p:sldId id="314" r:id="rId67"/>
    <p:sldId id="315" r:id="rId68"/>
    <p:sldId id="316" r:id="rId69"/>
    <p:sldId id="317" r:id="rId70"/>
    <p:sldId id="318" r:id="rId71"/>
    <p:sldId id="319" r:id="rId72"/>
    <p:sldId id="320" r:id="rId73"/>
    <p:sldId id="321" r:id="rId74"/>
    <p:sldId id="322" r:id="rId75"/>
    <p:sldId id="323" r:id="rId76"/>
    <p:sldId id="324" r:id="rId77"/>
    <p:sldId id="325" r:id="rId78"/>
    <p:sldId id="326" r:id="rId79"/>
    <p:sldId id="327" r:id="rId80"/>
    <p:sldId id="328" r:id="rId8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slide" Target="slides/slide55.xml"/><Relationship Id="rId64" Type="http://schemas.openxmlformats.org/officeDocument/2006/relationships/slide" Target="slides/slide56.xml"/><Relationship Id="rId65" Type="http://schemas.openxmlformats.org/officeDocument/2006/relationships/slide" Target="slides/slide57.xml"/><Relationship Id="rId66" Type="http://schemas.openxmlformats.org/officeDocument/2006/relationships/slide" Target="slides/slide58.xml"/><Relationship Id="rId67" Type="http://schemas.openxmlformats.org/officeDocument/2006/relationships/slide" Target="slides/slide59.xml"/><Relationship Id="rId68" Type="http://schemas.openxmlformats.org/officeDocument/2006/relationships/slide" Target="slides/slide60.xml"/><Relationship Id="rId69" Type="http://schemas.openxmlformats.org/officeDocument/2006/relationships/slide" Target="slides/slide61.xml"/><Relationship Id="rId70" Type="http://schemas.openxmlformats.org/officeDocument/2006/relationships/slide" Target="slides/slide62.xml"/><Relationship Id="rId71" Type="http://schemas.openxmlformats.org/officeDocument/2006/relationships/slide" Target="slides/slide63.xml"/><Relationship Id="rId72" Type="http://schemas.openxmlformats.org/officeDocument/2006/relationships/slide" Target="slides/slide64.xml"/><Relationship Id="rId73" Type="http://schemas.openxmlformats.org/officeDocument/2006/relationships/slide" Target="slides/slide65.xml"/><Relationship Id="rId74" Type="http://schemas.openxmlformats.org/officeDocument/2006/relationships/slide" Target="slides/slide66.xml"/><Relationship Id="rId75" Type="http://schemas.openxmlformats.org/officeDocument/2006/relationships/slide" Target="slides/slide67.xml"/><Relationship Id="rId76" Type="http://schemas.openxmlformats.org/officeDocument/2006/relationships/slide" Target="slides/slide68.xml"/><Relationship Id="rId77" Type="http://schemas.openxmlformats.org/officeDocument/2006/relationships/slide" Target="slides/slide69.xml"/><Relationship Id="rId78" Type="http://schemas.openxmlformats.org/officeDocument/2006/relationships/slide" Target="slides/slide70.xml"/><Relationship Id="rId79" Type="http://schemas.openxmlformats.org/officeDocument/2006/relationships/slide" Target="slides/slide71.xml"/><Relationship Id="rId80" Type="http://schemas.openxmlformats.org/officeDocument/2006/relationships/slide" Target="slides/slide72.xml"/><Relationship Id="rId81" Type="http://schemas.openxmlformats.org/officeDocument/2006/relationships/slide" Target="slides/slide73.xml"/><Relationship Id="rId8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546A-6835-4161-80E3-00E019498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FCBE-E965-47AF-AF8B-4BC755B8E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1604-D8CB-48A5-A9BE-DC353EDAF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E437-86FF-444E-AC9B-3ABBEC147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15F5A-DC86-4476-98FB-B503EE583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A56B8-51D1-499F-BAEB-80DDFAEE7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9D5D2-5C97-4ED5-B5EC-2FE4CB31A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84392-40B7-40BE-A7B8-772CA05F1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A4033-D665-48C2-AA2A-8150F77BF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26B37-AD28-4424-8F20-0F963E0E9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C0F67-341B-42EB-A907-61B77E0F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6CF1-743F-4685-97B1-33B4D34DA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73E59-094E-4C32-A5F8-2F87363F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1DB83-7A84-4DF6-ABB0-58179221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D2780-EBC1-4B60-BA3C-5F3781022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39D27-5C86-4562-B51E-A9D107CF9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E031E-56D1-498A-BC98-CAE56C2DA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7E5518-27D7-4879-A322-D9D2645F9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5966A8-5FBB-414A-A8B5-F31877208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4D8FCA-CAA3-4684-B946-F7AA7B826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E49D40-0964-4979-82AE-E36EF2F6E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2387C4-F322-4CAD-B486-DCD8C5102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E511-1BB1-4276-99E9-ED2B5923E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327EDB-564E-4CA7-80D7-EFD081251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43C4A2-414A-433D-ABC6-E9177FB9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9A5525-F867-45F1-B623-78AE62F6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F9082D-67F8-4D06-A87E-FBD9AB0D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F111B1-2FF4-452D-BE82-29CA26B44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B1DCB2-6803-4DAE-873B-06275B258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971C39-489F-4E61-A928-B567CFB08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8484C-6A78-4BB8-A962-FAD5981CD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52BD8-8907-47D8-AEC2-1D5F1401F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E77E8-553C-4468-B98C-65758D097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47F4-8165-4A16-A92E-75EBFEA7D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F0D74-7782-43FA-A7FF-21F08E637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6E573-C7B7-471D-B82B-F4349AAFF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71103-A0EE-4FCE-BC48-B7EDA3EA9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28ED4-DCB9-49DD-AC15-73F05B78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4929D-0FAD-439B-89F8-274D540D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0178B-A3A3-4EFF-AFB8-77D9A0B3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93994-E06E-4D20-B6C8-4C1010D9B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F8B0F-2526-4511-9299-6D1707B3B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5BB22-B796-4FDC-9429-C519F1147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4DE65A-CF6B-4E2D-8AD0-A57BAEBE1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EEF9-0FC4-40DF-B74F-E5E925B99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A8A6A1-7F0E-4022-9D53-6A6E11ADC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E2149D-2280-4CA6-BE29-E3D73F934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FF48DF-B91C-4407-9F0A-8739B49DF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A32F0D-A30C-465E-A997-F8D12482A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E1B92B-3B56-472F-AAE7-B63BF3334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C7BAE7-07A8-447B-83A4-CAC5EED2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5E4012-5808-4CED-9E39-58A1EAA2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84A398-857E-4B36-AEFA-67C3145F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9BA4FB-0C87-4D71-90C9-90245FAB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B111FD-FE72-4F3C-9FD5-6B74329FC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759C-7362-48B8-9A00-54175216A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EEDB65-26A1-4D9E-877F-F28C85158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B7A48D-0589-4A08-A58C-EF3807C92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47FCCC-62A4-4E25-8EB1-8C51A33BE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331A5D-A656-4721-905F-413614C6D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5FA469-73C3-406B-A4B5-469D4780D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E9D1C0-2F8C-419C-8007-D78F11556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6768BC-A8DE-4EB7-963B-A0B1E815A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7FCD00-28CE-4EC5-ADDB-6596D23F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C67F75-5E88-452B-8C04-723ACB3F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14C1EE-11E3-4DD7-A87C-BEEDAE0E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E5E4-7A5C-459A-AAE1-44775FCE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5C57D7-250D-49A1-8DBA-9E19A1AA6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768782-9160-48E7-AFBC-1376884F8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F97D2B-8D29-4D9F-9FF0-8FA80F401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3C9A32-B61A-418B-8FEE-101D0A5A4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594124-939F-4B1E-A633-C0A08EB33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5C3010-D5EB-4E3B-A8C8-1DEB78E16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28A7CF-D8CF-4CFE-A679-5CBFFD335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AF19BE-70EC-4B63-81A7-5C066F2DB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B64063-D517-4BC4-92A9-A6FC35F2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6043B9-B434-49EA-BA8F-2F9527E3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13E6-4AA4-488D-A098-C0AE41E1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A86C74-1C2C-46F5-9ED9-CA1262B2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D15E35-0FB6-4C31-8021-0A25E814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92E5BA-DB80-4B6B-96C1-E11CD203B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61EABE-0D89-4983-97DC-6EB648E65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237688-509C-4A66-81EB-F00031481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D11D-87FE-4DCF-BA18-0F103B5C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575f6d"/>
                </a:solidFill>
                <a:latin typeface="Century Schoolbook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575f6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E193B-DC8C-4CB0-B8C6-9C3F1D2D9591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575f6d"/>
                </a:solidFill>
                <a:latin typeface="Century Schoolbook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575f6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3AC76-16F4-49E6-B981-D6C19943BB86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575f6d"/>
                </a:solidFill>
                <a:latin typeface="Century Schoolbook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575f6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D3E4A-C154-43FD-8927-8E8F597BF383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fff39d"/>
                </a:solidFill>
                <a:latin typeface="Century Schoolbook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fff39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0FD3C-11B3-49A5-913E-27FED262E008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575f6d"/>
                </a:solidFill>
                <a:latin typeface="Century Schoolbook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575f6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4EBD7-BC04-4FF3-A764-33926535F681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575f6d"/>
                </a:solidFill>
                <a:latin typeface="Century Schoolbook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575f6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D67B8-D623-407F-940C-72EE9BB01C8F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575f6d"/>
                </a:solidFill>
                <a:latin typeface="Century Schoolbook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575f6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292A6-D91B-4044-B827-EB89E1A46C0F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057040" y="14479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575f6d"/>
                </a:solidFill>
                <a:latin typeface="Century Schoolbook"/>
              </a:rPr>
              <a:t>بسم الله الرحمن الرحیم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685440" y="9144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3668c4"/>
                </a:solidFill>
                <a:latin typeface="Century Schoolbook"/>
              </a:rPr>
              <a:t> توزیع جمعیت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تعداد جمعیت ساکن در یک منطقه و پراکندگی آنها بر حسب عوامل مختلف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70c0"/>
                </a:solidFill>
                <a:latin typeface="Century Schoolbook"/>
              </a:rPr>
              <a:t>برخی عوامل موثر بر توزیع جمعیت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عوامل طبیعی: آب و هوا، خاک، ارتفاع و..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عوامل سیاس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عوامل فرهنگی و مذهب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عوامل اقتصاد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و..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533160" y="8380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70c0"/>
                </a:solidFill>
                <a:latin typeface="Century Schoolbook"/>
              </a:rPr>
              <a:t>شاخص های توزیع جمعیت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- تراکم حساب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- تراکم زیست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- میزان شهرنشینی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- شاخص مرکزیت شهر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533160" y="10666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3668c4"/>
                </a:solidFill>
                <a:latin typeface="Century Schoolbook"/>
              </a:rPr>
              <a:t>سن: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lang="fa-IR" sz="2200" spc="-1" strike="noStrike">
                <a:solidFill>
                  <a:srgbClr val="7030a0"/>
                </a:solidFill>
                <a:latin typeface="Century Schoolbook"/>
              </a:rPr>
              <a:t>جمعیت جوان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00"/>
                </a:solidFill>
                <a:latin typeface="Century Schoolbook"/>
              </a:rPr>
              <a:t>جمعیتی که </a:t>
            </a:r>
            <a:r>
              <a:rPr b="0" lang="fa-IR" sz="2200" spc="-1" strike="noStrike">
                <a:solidFill>
                  <a:srgbClr val="000000"/>
                </a:solidFill>
                <a:latin typeface="Century Schoolbook"/>
              </a:rPr>
              <a:t>40</a:t>
            </a:r>
            <a:r>
              <a:rPr b="0" lang="fa-IR" sz="2200" spc="-1" strike="noStrike">
                <a:solidFill>
                  <a:srgbClr val="000000"/>
                </a:solidFill>
                <a:latin typeface="Century Schoolbook"/>
              </a:rPr>
              <a:t> درصد  یا بیشتر از آن را افراد کمتر از </a:t>
            </a:r>
            <a:r>
              <a:rPr b="0" lang="fa-IR" sz="2200" spc="-1" strike="noStrike">
                <a:solidFill>
                  <a:srgbClr val="000000"/>
                </a:solidFill>
                <a:latin typeface="Century Schoolbook"/>
              </a:rPr>
              <a:t>15</a:t>
            </a:r>
            <a:r>
              <a:rPr b="0" lang="fa-IR" sz="2200" spc="-1" strike="noStrike">
                <a:solidFill>
                  <a:srgbClr val="000000"/>
                </a:solidFill>
                <a:latin typeface="Century Schoolbook"/>
              </a:rPr>
              <a:t> سال تشکیل دهند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7030a0"/>
                </a:solidFill>
                <a:latin typeface="Century Schoolbook"/>
              </a:rPr>
              <a:t>- جمعیت پیر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00"/>
                </a:solidFill>
                <a:latin typeface="Century Schoolbook"/>
              </a:rPr>
              <a:t>جمعیتی که </a:t>
            </a:r>
            <a:r>
              <a:rPr b="0" lang="fa-IR" sz="2200" spc="-1" strike="noStrike">
                <a:solidFill>
                  <a:srgbClr val="000000"/>
                </a:solidFill>
                <a:latin typeface="Century Schoolbook"/>
              </a:rPr>
              <a:t>10</a:t>
            </a:r>
            <a:r>
              <a:rPr b="0" lang="fa-IR" sz="2200" spc="-1" strike="noStrike">
                <a:solidFill>
                  <a:srgbClr val="000000"/>
                </a:solidFill>
                <a:latin typeface="Century Schoolbook"/>
              </a:rPr>
              <a:t> درصد  یا بیشتر از آن را افراد بیش از </a:t>
            </a:r>
            <a:r>
              <a:rPr b="0" lang="fa-IR" sz="2200" spc="-1" strike="noStrike">
                <a:solidFill>
                  <a:srgbClr val="000000"/>
                </a:solidFill>
                <a:latin typeface="Century Schoolbook"/>
              </a:rPr>
              <a:t>65</a:t>
            </a:r>
            <a:r>
              <a:rPr b="0" lang="fa-IR" sz="2200" spc="-1" strike="noStrike">
                <a:solidFill>
                  <a:srgbClr val="000000"/>
                </a:solidFill>
                <a:latin typeface="Century Schoolbook"/>
              </a:rPr>
              <a:t> سال تشکیل دهند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lang="fa-IR" sz="2200" spc="-1" strike="noStrike">
                <a:solidFill>
                  <a:srgbClr val="7030a0"/>
                </a:solidFill>
                <a:latin typeface="Century Schoolbook"/>
              </a:rPr>
              <a:t>میانه سنی: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00"/>
                </a:solidFill>
                <a:latin typeface="Century Schoolbook"/>
              </a:rPr>
              <a:t>سنی که جمعیت را به دو بخش مساوی تقسیم می کند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00"/>
                </a:solidFill>
                <a:latin typeface="Century Schoolbook"/>
              </a:rPr>
              <a:t>هر جمعیتی که میانه سنی پایین تری داشته باشد جوانتر خواهد بود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533160" y="99072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افراد سنین کار(تولیدکننده)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افراد بین سنین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15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 تا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64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 سالگ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افراد وابسته (مصرف کننده)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افراد کمتر از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15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 سال و بالای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64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 سال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- نسبت وابستگی (سرباری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533160" y="99072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3668c4"/>
                </a:solidFill>
                <a:latin typeface="Century Schoolbook"/>
              </a:rPr>
              <a:t>جنس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- نسبت جنسی (نسبت مرد به زن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- نسبت جنسی ویژه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- ترکیب سنی جنسی (؟؟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609480" y="838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3668c4"/>
                </a:solidFill>
                <a:latin typeface="Century Schoolbook"/>
              </a:rPr>
              <a:t>زاد و ولد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میزان موالید خام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تعداد موالید زنده متولد شده در یک زمان معین تقسیم بر متوسط جمعیت همان زمان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میزان باروری عمومی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تعداد موالید زنده متولد شده در یک زمان معین تقسیم بر متوسط جمعیت زنان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15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 تا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49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 ساله همان زمان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609480" y="91440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میزان ناخالص تجدید نسل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تعداد دختران زنده متولد شده تقسیم بر تعداد زنان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15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 تا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49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 ساله (بدون احتساب مرگ و میر زنان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میزان خالص تجدید نسل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تعداد دختران زنده متولد شده تقسیم بر تعداد زنان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15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 تا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49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 ساله (با احتساب مرگ و میر زنان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838080" y="91440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7030a0"/>
                </a:solidFill>
                <a:latin typeface="Century Schoolbook"/>
              </a:rPr>
              <a:t>باروری واقعی (بالقوه)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ظرفیت فیزیولوژیک فرزندآور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7030a0"/>
                </a:solidFill>
                <a:latin typeface="Century Schoolbook"/>
              </a:rPr>
              <a:t>باروری عملی (بالفعل)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میزان مشاهده شده فرزندآور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7030a0"/>
                </a:solidFill>
                <a:latin typeface="Century Schoolbook"/>
              </a:rPr>
              <a:t>باروری افتراقی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تفاوتهای باروری در گروه های مختلف جمعیتی (گروه های مذهبی، شغلی، سنی، تحصیلی، شهری-روستایی و...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838080" y="76212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3668c4"/>
                </a:solidFill>
                <a:latin typeface="Century Schoolbook"/>
              </a:rPr>
              <a:t>عوامل موثر بر میزان باروری زنان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- عوامل محیطی: ارتفاع از سطح دریا، دما، رطوبت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- عوامل اجتماعی: بعد خانوار، ارزش فرزند، نوع اجتماع (شهری یا روستایی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- عوامل اقتصادی: درآمد، اشتغال، خدمات اجتماع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- عوامل جمعیتی: ساختار سنی و جنسی، مرگ ومی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- عوامل آموزشی و فرهنگی: تحصیلات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609480" y="838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3668c4"/>
                </a:solidFill>
                <a:latin typeface="Century Schoolbook"/>
              </a:rPr>
              <a:t>مرگ و میر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میزان خام مرگ و میر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تعداد مرگ و میر در یک زمان معین تقسیم بر متوسط جمعیت در همان زمان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میزان مرگ و میر اطفال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تعداد مرگ و میر کودکان زیر یک سال در یک زمان معین تقسیم بر تعداد نوزادان زنده متولد شده در همان زمان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7598d9"/>
                </a:solidFill>
                <a:latin typeface="Century Schoolbook"/>
              </a:rPr>
              <a:t>جمعیت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533160" y="11430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مجموعه ای از انسانها که در یک منطقه معین جغرافیایی( روستا، شهر، استان، کشور و...) به طور مستمر زندگی می کنن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7598d9"/>
                </a:solidFill>
                <a:latin typeface="Century Schoolbook"/>
              </a:rPr>
              <a:t>جمعیت شناسی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علم مطالعه جمعیت های انسانی است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مطالعه علمی اندازه، ترکیب و توزیع منطقه ای جمعیت های انسانی و تغییرات این عوامل با توجه به سه فرایند زاد و ولد، مرگ ومیر و مهاجرت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مطالعه علمی و توصیف و تحلیل آماری ساخت و حرکات جمعیت های انسانی، بررسی سیاستهای جمعیتی و روابط متقابلی که میان پدیده های جمعیتی وعوامل اقتصادی- اجتماعی و زیستی وجود دار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609480" y="99072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میزان مرگ و میر زنان باردار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تعداد مرگ مادران به علل بارداری در یک زمان معین تقیسم بر تعداد نوزادان زنده متولد شده در همان زمان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میزان کشندگی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تعداد مرگ از یک بیماری خاص در یک زمان معین تقسیم بر تعداد مبتلایان به همان بیماری درهمان زمان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685440" y="99072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میزان امید به زندگی در بدو تولد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609480" y="838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3668c4"/>
                </a:solidFill>
                <a:latin typeface="Century Schoolbook"/>
              </a:rPr>
              <a:t>مهاجرت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شکل توزیع جمعیت را تغییر می دهد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3668c4"/>
                </a:solidFill>
                <a:latin typeface="Century Schoolbook"/>
              </a:rPr>
              <a:t>عوامل موثر بر مهاجرت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طبیعی و اقلیم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اقتصاد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اجتماعی و فرهنگ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سیاس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مذهب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838080" y="99072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3668c4"/>
                </a:solidFill>
                <a:latin typeface="Century Schoolbook"/>
              </a:rPr>
              <a:t>انواع مهاجرت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موقت یا دائم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اجباری یا اراد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داخلی یا خارج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انفرادی یا گروه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685440" y="10666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میزان مهاجر فرستی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تعداد مهاجرین به خارج در یک زمان و مکان مشخص تقسیم بر متوسط جمعیت در همان زمان و مکان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میزان مهاجر پذیری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تعداد مهاجرین به داخل در یک زمان و مکان مشخص تقسیم بر متوسط جمعیت در همان زمان و مکان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609480" y="91440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میزان مهاجرت خالص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میزان رشد طبیعی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میزان رشد مطلق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مدت زمان دو برابر شدن جمعیت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609480" y="99072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سوال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طبق سرشماری سال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139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 میزان موالید منطقه ای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2.9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 درصد و میزان مرگ و میر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1.2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 درصد بود. جمعیت این منطقه در چند سال آینده دو برابر می شود؟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685440" y="99072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0000"/>
                </a:solidFill>
                <a:latin typeface="Century Schoolbook"/>
              </a:rPr>
              <a:t>علل رشد پایین جمعیت در گذشته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اپیدمیها (طاعون در قرن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14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 میلادی یک سوم مردم اروپا را کشت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جنگها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قحطیها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حوادث طبیعی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761760" y="9144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ایران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2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هجدهمین کشور پرجمعیت دنیا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2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اولین تلاش برای شمارش جمعیت ایران در سال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1316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2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اولین سرشماری عمومی در سال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1335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2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سرشماری عمومی هر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1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 سال یک با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2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؟؟؟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685440" y="99072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00"/>
                </a:solidFill>
                <a:latin typeface="Century Schoolbook"/>
              </a:rPr>
              <a:t>جمعیت ایران در سال </a:t>
            </a:r>
            <a:r>
              <a:rPr b="0" lang="fa-IR" sz="2200" spc="-1" strike="noStrike">
                <a:solidFill>
                  <a:srgbClr val="000000"/>
                </a:solidFill>
                <a:latin typeface="Century Schoolbook"/>
              </a:rPr>
              <a:t>1280</a:t>
            </a:r>
            <a:r>
              <a:rPr b="0" lang="fa-IR" sz="2200" spc="-1" strike="noStrike">
                <a:solidFill>
                  <a:srgbClr val="000000"/>
                </a:solidFill>
                <a:latin typeface="Century Schoolbook"/>
              </a:rPr>
              <a:t>              </a:t>
            </a:r>
            <a:r>
              <a:rPr b="0" lang="fa-IR" sz="2200" spc="-1" strike="noStrike">
                <a:solidFill>
                  <a:srgbClr val="000000"/>
                </a:solidFill>
                <a:latin typeface="Century Schoolbook"/>
              </a:rPr>
              <a:t>9</a:t>
            </a:r>
            <a:r>
              <a:rPr b="0" lang="fa-IR" sz="2200" spc="-1" strike="noStrike">
                <a:solidFill>
                  <a:srgbClr val="000000"/>
                </a:solidFill>
                <a:latin typeface="Century Schoolbook"/>
              </a:rPr>
              <a:t> میلیون نفر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00"/>
                </a:solidFill>
                <a:latin typeface="Century Schoolbook"/>
              </a:rPr>
              <a:t>در سال </a:t>
            </a:r>
            <a:r>
              <a:rPr b="0" lang="fa-IR" sz="2200" spc="-1" strike="noStrike">
                <a:solidFill>
                  <a:srgbClr val="000000"/>
                </a:solidFill>
                <a:latin typeface="Century Schoolbook"/>
              </a:rPr>
              <a:t>1335</a:t>
            </a:r>
            <a:r>
              <a:rPr b="0" lang="fa-IR" sz="2200" spc="-1" strike="noStrike">
                <a:solidFill>
                  <a:srgbClr val="000000"/>
                </a:solidFill>
                <a:latin typeface="Century Schoolbook"/>
              </a:rPr>
              <a:t>                </a:t>
            </a:r>
            <a:r>
              <a:rPr b="0" lang="fa-IR" sz="2200" spc="-1" strike="noStrike">
                <a:solidFill>
                  <a:srgbClr val="000000"/>
                </a:solidFill>
                <a:latin typeface="Century Schoolbook"/>
              </a:rPr>
              <a:t>19</a:t>
            </a:r>
            <a:r>
              <a:rPr b="0" lang="fa-IR" sz="2200" spc="-1" strike="noStrike">
                <a:solidFill>
                  <a:srgbClr val="000000"/>
                </a:solidFill>
                <a:latin typeface="Century Schoolbook"/>
              </a:rPr>
              <a:t> میلیون نفر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00"/>
                </a:solidFill>
                <a:latin typeface="Century Schoolbook"/>
              </a:rPr>
              <a:t>در سال </a:t>
            </a:r>
            <a:r>
              <a:rPr b="0" lang="fa-IR" sz="2200" spc="-1" strike="noStrike">
                <a:solidFill>
                  <a:srgbClr val="000000"/>
                </a:solidFill>
                <a:latin typeface="Century Schoolbook"/>
              </a:rPr>
              <a:t>1375</a:t>
            </a:r>
            <a:r>
              <a:rPr b="0" lang="fa-IR" sz="2200" spc="-1" strike="noStrike">
                <a:solidFill>
                  <a:srgbClr val="000000"/>
                </a:solidFill>
                <a:latin typeface="Century Schoolbook"/>
              </a:rPr>
              <a:t>                </a:t>
            </a:r>
            <a:r>
              <a:rPr b="0" lang="fa-IR" sz="2200" spc="-1" strike="noStrike">
                <a:solidFill>
                  <a:srgbClr val="000000"/>
                </a:solidFill>
                <a:latin typeface="Century Schoolbook"/>
              </a:rPr>
              <a:t>60</a:t>
            </a:r>
            <a:r>
              <a:rPr b="0" lang="fa-IR" sz="2200" spc="-1" strike="noStrike">
                <a:solidFill>
                  <a:srgbClr val="000000"/>
                </a:solidFill>
                <a:latin typeface="Century Schoolbook"/>
              </a:rPr>
              <a:t> میلیون نفر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00"/>
                </a:solidFill>
                <a:latin typeface="Century Schoolbook"/>
              </a:rPr>
              <a:t>در سال </a:t>
            </a:r>
            <a:r>
              <a:rPr b="0" lang="fa-IR" sz="2200" spc="-1" strike="noStrike">
                <a:solidFill>
                  <a:srgbClr val="000000"/>
                </a:solidFill>
                <a:latin typeface="Century Schoolbook"/>
              </a:rPr>
              <a:t>2050</a:t>
            </a:r>
            <a:r>
              <a:rPr b="0" lang="fa-IR" sz="2200" spc="-1" strike="noStrike">
                <a:solidFill>
                  <a:srgbClr val="000000"/>
                </a:solidFill>
                <a:latin typeface="Century Schoolbook"/>
              </a:rPr>
              <a:t>                </a:t>
            </a:r>
            <a:r>
              <a:rPr b="0" lang="fa-IR" sz="2200" spc="-1" strike="noStrike">
                <a:solidFill>
                  <a:srgbClr val="000000"/>
                </a:solidFill>
                <a:latin typeface="Century Schoolbook"/>
              </a:rPr>
              <a:t>96</a:t>
            </a:r>
            <a:r>
              <a:rPr b="0" lang="fa-IR" sz="2200" spc="-1" strike="noStrike">
                <a:solidFill>
                  <a:srgbClr val="000000"/>
                </a:solidFill>
                <a:latin typeface="Century Schoolbook"/>
              </a:rPr>
              <a:t> میلیون نفر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00"/>
                </a:solidFill>
                <a:latin typeface="Century Schoolbook"/>
              </a:rPr>
              <a:t>بیشترین میزان رشد جمعیت ایران در بین سالهای </a:t>
            </a:r>
            <a:r>
              <a:rPr b="0" lang="fa-IR" sz="2200" spc="-1" strike="noStrike">
                <a:solidFill>
                  <a:srgbClr val="000000"/>
                </a:solidFill>
                <a:latin typeface="Century Schoolbook"/>
              </a:rPr>
              <a:t>1355</a:t>
            </a:r>
            <a:r>
              <a:rPr b="0" lang="fa-IR" sz="2200" spc="-1" strike="noStrike">
                <a:solidFill>
                  <a:srgbClr val="000000"/>
                </a:solidFill>
                <a:latin typeface="Century Schoolbook"/>
              </a:rPr>
              <a:t>تا </a:t>
            </a:r>
            <a:r>
              <a:rPr b="0" lang="fa-IR" sz="2200" spc="-1" strike="noStrike">
                <a:solidFill>
                  <a:srgbClr val="000000"/>
                </a:solidFill>
                <a:latin typeface="Century Schoolbook"/>
              </a:rPr>
              <a:t>1365</a:t>
            </a:r>
            <a:r>
              <a:rPr b="0" lang="fa-IR" sz="2200" spc="-1" strike="noStrike">
                <a:solidFill>
                  <a:srgbClr val="000000"/>
                </a:solidFill>
                <a:latin typeface="Century Schoolbook"/>
              </a:rPr>
              <a:t> به میزان </a:t>
            </a:r>
            <a:r>
              <a:rPr b="0" lang="fa-IR" sz="2200" spc="-1" strike="noStrike">
                <a:solidFill>
                  <a:srgbClr val="000000"/>
                </a:solidFill>
                <a:latin typeface="Century Schoolbook"/>
              </a:rPr>
              <a:t>3/9</a:t>
            </a:r>
            <a:r>
              <a:rPr b="0" lang="fa-IR" sz="2200" spc="-1" strike="noStrike">
                <a:solidFill>
                  <a:srgbClr val="000000"/>
                </a:solidFill>
                <a:latin typeface="Century Schoolbook"/>
              </a:rPr>
              <a:t> درصد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00"/>
                </a:solidFill>
                <a:latin typeface="Century Schoolbook"/>
              </a:rPr>
              <a:t>میزان کنونی رشد جمعیت ایران </a:t>
            </a:r>
            <a:r>
              <a:rPr b="0" lang="fa-IR" sz="2200" spc="-1" strike="noStrike">
                <a:solidFill>
                  <a:srgbClr val="000000"/>
                </a:solidFill>
                <a:latin typeface="Century Schoolbook"/>
              </a:rPr>
              <a:t>1/2</a:t>
            </a:r>
            <a:r>
              <a:rPr b="0" lang="fa-IR" sz="2200" spc="-1" strike="noStrike">
                <a:solidFill>
                  <a:srgbClr val="000000"/>
                </a:solidFill>
                <a:latin typeface="Century Schoolbook"/>
              </a:rPr>
              <a:t> درصد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81" name="Straight Arrow Connector 4"/>
          <p:cNvCxnSpPr/>
          <p:nvPr/>
        </p:nvCxnSpPr>
        <p:spPr>
          <a:xfrm flipH="1" flipV="1">
            <a:off x="5637960" y="3428640"/>
            <a:ext cx="76284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82" name="Straight Arrow Connector 5"/>
          <p:cNvCxnSpPr/>
          <p:nvPr/>
        </p:nvCxnSpPr>
        <p:spPr>
          <a:xfrm flipH="1" flipV="1">
            <a:off x="5562360" y="2057040"/>
            <a:ext cx="76248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83" name="Straight Arrow Connector 6"/>
          <p:cNvCxnSpPr/>
          <p:nvPr/>
        </p:nvCxnSpPr>
        <p:spPr>
          <a:xfrm flipH="1" flipV="1">
            <a:off x="5562360" y="2742840"/>
            <a:ext cx="76248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84" name="Straight Arrow Connector 7"/>
          <p:cNvCxnSpPr/>
          <p:nvPr/>
        </p:nvCxnSpPr>
        <p:spPr>
          <a:xfrm flipH="1" flipV="1">
            <a:off x="4342680" y="1447560"/>
            <a:ext cx="76284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685440" y="10666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70c0"/>
                </a:solidFill>
                <a:latin typeface="Century Schoolbook"/>
              </a:rPr>
              <a:t>روشهای مطالعه جمعیت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سرشمار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آمارگیری نمونه ا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ثبت وقایع حیات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سایر منابع اطلاعاتی: گزارش نهادها و موسسات، نتایج ثبت نام های عمومی، انتخابات و..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685440" y="8380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r" rtl="1">
              <a:lnSpc>
                <a:spcPct val="13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ff0000"/>
                </a:solidFill>
                <a:latin typeface="Century Schoolbook"/>
              </a:rPr>
              <a:t>ساختار جمعیت ایران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r" rtl="1">
              <a:lnSpc>
                <a:spcPct val="13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00"/>
                </a:solidFill>
                <a:latin typeface="Century Schoolbook"/>
              </a:rPr>
              <a:t>سکونت یک ششم جمعیت کشور در استان تهران (مساحت استان تهران </a:t>
            </a:r>
            <a:r>
              <a:rPr b="0" lang="fa-IR" sz="2200" spc="-1" strike="noStrike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fa-IR" sz="2200" spc="-1" strike="noStrike">
                <a:solidFill>
                  <a:srgbClr val="000000"/>
                </a:solidFill>
                <a:latin typeface="Century Schoolbook"/>
              </a:rPr>
              <a:t> درصد کل کشور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r" rtl="1">
              <a:lnSpc>
                <a:spcPct val="13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00"/>
                </a:solidFill>
                <a:latin typeface="Century Schoolbook"/>
              </a:rPr>
              <a:t>سکونت </a:t>
            </a:r>
            <a:r>
              <a:rPr b="0" lang="fa-IR" sz="2200" spc="-1" strike="noStrike">
                <a:solidFill>
                  <a:srgbClr val="000000"/>
                </a:solidFill>
                <a:latin typeface="Century Schoolbook"/>
              </a:rPr>
              <a:t>0/3</a:t>
            </a:r>
            <a:r>
              <a:rPr b="0" lang="fa-IR" sz="2200" spc="-1" strike="noStrike">
                <a:solidFill>
                  <a:srgbClr val="000000"/>
                </a:solidFill>
                <a:latin typeface="Century Schoolbook"/>
              </a:rPr>
              <a:t> درصد جمعیت کشور در استان سیستان و بلوچستان (مساحت استان سیستان و بلوچستان </a:t>
            </a:r>
            <a:r>
              <a:rPr b="0" lang="fa-IR" sz="2200" spc="-1" strike="noStrike">
                <a:solidFill>
                  <a:srgbClr val="000000"/>
                </a:solidFill>
                <a:latin typeface="Century Schoolbook"/>
              </a:rPr>
              <a:t>11</a:t>
            </a:r>
            <a:r>
              <a:rPr b="0" lang="fa-IR" sz="2200" spc="-1" strike="noStrike">
                <a:solidFill>
                  <a:srgbClr val="000000"/>
                </a:solidFill>
                <a:latin typeface="Century Schoolbook"/>
              </a:rPr>
              <a:t> درصد کل کشور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r" rtl="1">
              <a:lnSpc>
                <a:spcPct val="13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00"/>
                </a:solidFill>
                <a:latin typeface="Century Schoolbook"/>
              </a:rPr>
              <a:t>جمعیت شهرنشین در سال </a:t>
            </a:r>
            <a:r>
              <a:rPr b="0" lang="fa-IR" sz="2200" spc="-1" strike="noStrike">
                <a:solidFill>
                  <a:srgbClr val="000000"/>
                </a:solidFill>
                <a:latin typeface="Century Schoolbook"/>
              </a:rPr>
              <a:t>1335</a:t>
            </a:r>
            <a:r>
              <a:rPr b="0" lang="fa-IR" sz="2200" spc="-1" strike="noStrike">
                <a:solidFill>
                  <a:srgbClr val="000000"/>
                </a:solidFill>
                <a:latin typeface="Century Schoolbook"/>
              </a:rPr>
              <a:t>، </a:t>
            </a:r>
            <a:r>
              <a:rPr b="0" lang="fa-IR" sz="2200" spc="-1" strike="noStrike">
                <a:solidFill>
                  <a:srgbClr val="000000"/>
                </a:solidFill>
                <a:latin typeface="Century Schoolbook"/>
              </a:rPr>
              <a:t>31</a:t>
            </a:r>
            <a:r>
              <a:rPr b="0" lang="fa-IR" sz="2200" spc="-1" strike="noStrike">
                <a:solidFill>
                  <a:srgbClr val="000000"/>
                </a:solidFill>
                <a:latin typeface="Century Schoolbook"/>
              </a:rPr>
              <a:t>درصد و در سال </a:t>
            </a:r>
            <a:r>
              <a:rPr b="0" lang="fa-IR" sz="2200" spc="-1" strike="noStrike">
                <a:solidFill>
                  <a:srgbClr val="000000"/>
                </a:solidFill>
                <a:latin typeface="Century Schoolbook"/>
              </a:rPr>
              <a:t>1375</a:t>
            </a:r>
            <a:r>
              <a:rPr b="0" lang="fa-IR" sz="2200" spc="-1" strike="noStrike">
                <a:solidFill>
                  <a:srgbClr val="000000"/>
                </a:solidFill>
                <a:latin typeface="Century Schoolbook"/>
              </a:rPr>
              <a:t>، </a:t>
            </a:r>
            <a:r>
              <a:rPr b="0" lang="fa-IR" sz="2200" spc="-1" strike="noStrike">
                <a:solidFill>
                  <a:srgbClr val="000000"/>
                </a:solidFill>
                <a:latin typeface="Century Schoolbook"/>
              </a:rPr>
              <a:t>61</a:t>
            </a:r>
            <a:r>
              <a:rPr b="0" lang="fa-IR" sz="2200" spc="-1" strike="noStrike">
                <a:solidFill>
                  <a:srgbClr val="000000"/>
                </a:solidFill>
                <a:latin typeface="Century Schoolbook"/>
              </a:rPr>
              <a:t> درصد کل جمعیت کشور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r" rtl="1">
              <a:lnSpc>
                <a:spcPct val="13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00"/>
                </a:solidFill>
                <a:latin typeface="Century Schoolbook"/>
              </a:rPr>
              <a:t>تمرکز یک سوم جمعیت شهری کشور در </a:t>
            </a:r>
            <a:r>
              <a:rPr b="0" lang="fa-IR" sz="2200" spc="-1" strike="noStrike">
                <a:solidFill>
                  <a:srgbClr val="000000"/>
                </a:solidFill>
                <a:latin typeface="Century Schoolbook"/>
              </a:rPr>
              <a:t>5</a:t>
            </a:r>
            <a:r>
              <a:rPr b="0" lang="fa-IR" sz="2200" spc="-1" strike="noStrike">
                <a:solidFill>
                  <a:srgbClr val="000000"/>
                </a:solidFill>
                <a:latin typeface="Century Schoolbook"/>
              </a:rPr>
              <a:t> شهر تهران، مشهد، اصفهان، تبریز و شیراز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r" rtl="1">
              <a:lnSpc>
                <a:spcPct val="13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00"/>
                </a:solidFill>
                <a:latin typeface="Century Schoolbook"/>
              </a:rPr>
              <a:t>تمرکز کمتر از </a:t>
            </a:r>
            <a:r>
              <a:rPr b="0" lang="fa-IR" sz="2200" spc="-1" strike="noStrike">
                <a:solidFill>
                  <a:srgbClr val="000000"/>
                </a:solidFill>
                <a:latin typeface="Century Schoolbook"/>
              </a:rPr>
              <a:t>20</a:t>
            </a:r>
            <a:r>
              <a:rPr b="0" lang="fa-IR" sz="2200" spc="-1" strike="noStrike">
                <a:solidFill>
                  <a:srgbClr val="000000"/>
                </a:solidFill>
                <a:latin typeface="Century Schoolbook"/>
              </a:rPr>
              <a:t> درصد جمعیت شهری کشور در </a:t>
            </a:r>
            <a:r>
              <a:rPr b="0" lang="fa-IR" sz="2200" spc="-1" strike="noStrike">
                <a:solidFill>
                  <a:srgbClr val="000000"/>
                </a:solidFill>
                <a:latin typeface="Century Schoolbook"/>
              </a:rPr>
              <a:t>493</a:t>
            </a:r>
            <a:r>
              <a:rPr b="0" lang="fa-IR" sz="2200" spc="-1" strike="noStrike">
                <a:solidFill>
                  <a:srgbClr val="000000"/>
                </a:solidFill>
                <a:latin typeface="Century Schoolbook"/>
              </a:rPr>
              <a:t> شهر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r" rtl="1">
              <a:lnSpc>
                <a:spcPct val="13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685440" y="99072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کمتر از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4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 درصد جمعیت ایران زیر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14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 سال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میزان ازدواج جمعیت در حد بالا (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98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درصد در گروه سنی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45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 تا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49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 سال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افزایش میانگین سن ازدواج (در زنان شهری از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14/4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 به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20/8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 ، و در مردان شهری از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23/4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 به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25/8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838080" y="91440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میزان فعالیت = تعداد فعالان اقتصادی نسبت به افراد بالای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1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 سال جمعیت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کاهش میزان فعالیت از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47/5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 درصد در سال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1335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 به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35/3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 درصد در سال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1375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؟؟؟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افزایش سن شروع به کار به دلیل گسترش تحصیلات متوسطه وعال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توجه کمتر به بخش کشاورزی و از طرفی عدم رشد مناسب بخش صنعت و خدمات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فعالیت کم زنان در بخشهای مختلف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685440" y="9144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Century Schoolbook"/>
              </a:rPr>
              <a:t>حرکات جمعیت ایران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کاهش مرگ اطفال از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179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 در هزار به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21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 در هزا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افزایش امید به زندگی از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39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 سال به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7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 سال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کاهش میزان موالید از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42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 در هزار به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16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 در هزا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افزایش مهاجرت از روستاها به شهرها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761760" y="10666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70c0"/>
                </a:solidFill>
                <a:latin typeface="Century Schoolbook"/>
              </a:rPr>
              <a:t>جمعیت و بهداشت و سلامت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2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نیاز به خدمات و امکانات بهداشتی و پزشکی بیشتر با افزایش جمعیت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2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 تراکم جمعیت و احتمال بروز بیماری های مسر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2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سالمند شدن جمعیت با افزایش امید به زندگ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2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افزایش بیماریهای مزمن و غیرواگی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838080" y="99072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Century Schoolbook"/>
              </a:rPr>
              <a:t>سیاست های جمعیتی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اهداف و راهکارهای برنامه ریزی شده در سطح محلی، ملی و بین المللی در جهت تاثیرگذاری بر عوامل مرتبط با جمعیت (اندازه، رشد، توزیع و ترکیب جمعیت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761760" y="10666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2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سیاست های مستقیم – سیاست های غیر مستقیم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2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سیاست های کمی – سیاست های کیف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2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سیاست های داخلی – سیاست های خارج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685440" y="11430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70c0"/>
                </a:solidFill>
                <a:latin typeface="Century Schoolbook"/>
              </a:rPr>
              <a:t>سیاست های جمعیتی و مرگ و میر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2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ارتقا سطح بهداشت و سلامت و کاهش مرگ و می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2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سیاست های جنگ ستیزانه و حمایت از صلح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761760" y="99072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70c0"/>
                </a:solidFill>
                <a:latin typeface="Century Schoolbook"/>
              </a:rPr>
              <a:t>سیاست های جمعیتی و زاد و ولد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سیاست های کاهش بارور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کنترل موالید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تنظیم خانواده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بهداشت بارور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سیاست های ثبات بارور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سیاست های افزایش بارور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761760" y="99072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70c0"/>
                </a:solidFill>
                <a:latin typeface="Century Schoolbook"/>
              </a:rPr>
              <a:t>اقدامات فراتر از برنامه تنظیم خانواده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افزایش سن قانونی ازدواج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افزایش میزان تحصیلات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افزایش مشارکت زنان در کارهای بیرون از خانه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ارائه آموزش های جمعیتی در مدارس و دانشگاه ها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685440" y="9144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70c0"/>
                </a:solidFill>
                <a:latin typeface="Century Schoolbook"/>
              </a:rPr>
              <a:t>انواع  جمعیت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7030a0"/>
                </a:solidFill>
                <a:latin typeface="Century Schoolbook"/>
              </a:rPr>
              <a:t>جمعیت مقیم (قانونی)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تمام کسانی که تابعیت کشوری را دارند و یا در اصل از آن منطقه باشند صرف نظر از اینکه در زمان سرشماری در محل حضور داشته باشند و یا نداشته باشن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7030a0"/>
                </a:solidFill>
                <a:latin typeface="Century Schoolbook"/>
              </a:rPr>
              <a:t>جمعیت واقعی (حاضر)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صرفا کسانی را شامل می شود که در هنگام سرشماری در محل حضور داشته باشند و مورد شمارش قرار گیرند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838080" y="91440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70c0"/>
                </a:solidFill>
                <a:latin typeface="Century Schoolbook"/>
              </a:rPr>
              <a:t>سیاست های جمعیتی و ازدواج و همسرگزینی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2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افزایش قانونی سن ازدواج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کاهش آمار طلا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کاهش حاملگی های زودرس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قاعده مندی باروری و بهداشت مادر و کودک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2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محدودیت چند همسر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2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 کنترل بهداشتی افراد در زمان ازدواج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761760" y="99072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70c0"/>
                </a:solidFill>
                <a:latin typeface="Century Schoolbook"/>
              </a:rPr>
              <a:t>سیاست های جمعیتی و مهاجرت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مهاجرت داخل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جابجایی جمعیت از مناطق متراکم به دیگر نقاط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ایجاد مناطق مسکونی جدید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افزایش امکانات در مناطق کم جمعیت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2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مهاجرت خارج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838080" y="838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70c0"/>
                </a:solidFill>
                <a:latin typeface="Century Schoolbook"/>
              </a:rPr>
              <a:t>چالش های سیاست های جمعیتی در ایران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افزایش جمعیت از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34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 میلیون به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6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 میلیون طی سالهای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55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 تا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75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افزایش شهرنشین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افزایش مشکلات اقتصادی اجتماع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استفاده بی رویه از مناب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 تخریب محیط زیست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کاهش کیفیت آموزش های رسم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افزایش بیکاری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و..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160" y="20570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600" spc="-1" strike="noStrike">
                <a:solidFill>
                  <a:srgbClr val="7598d9"/>
                </a:solidFill>
                <a:latin typeface="Century Schoolbook"/>
              </a:rPr>
              <a:t>سلامت و بهداشت باروری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609480" y="838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70c0"/>
                </a:solidFill>
                <a:latin typeface="Century Schoolbook"/>
              </a:rPr>
              <a:t>سلامت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Century Schoolbook"/>
              </a:rPr>
              <a:t>رفاه کامل جسمی، روانی و اجتماعی و نه فقط نبود بیماری یا ناتوانی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685440" y="9144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70c0"/>
                </a:solidFill>
                <a:latin typeface="Century Schoolbook"/>
              </a:rPr>
              <a:t>بهداشت باروری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مشاوره، اطلاع رسانی، آموزش در زمینه مراقبت های بهداشتی اولیه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مراقبت های نوزاد (تغذیه با شیر مادر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مراقبت های بهداشتی کودکان و ترویج تغذیه سالم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مراقبت های قبل، حین و بعد از زایمان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مراقبت های بهداشتی زنان (پیشگیری و درمان نازایی، جلوگیری از سقط جنین، پیشگیری و کنترل بیماریهای مقاربتی و سرطان های پستان و دستگاه تولید مثل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خدمات تنظیم خانواده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685440" y="8380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70c0"/>
                </a:solidFill>
                <a:latin typeface="Century Schoolbook"/>
              </a:rPr>
              <a:t>بهداشت کودک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70c0"/>
                </a:solidFill>
                <a:latin typeface="Century Schoolbook"/>
              </a:rPr>
              <a:t>چالشها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فقر و سوء تغذیه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کاهش موارد تغذیه با شیر ماد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تولدهای ناخواسته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عدم توجه و مراقبت از کودکان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زایمان در سنین بالا و پایین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زایمان های زیاد و نزدیک به هم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838080" y="609480"/>
            <a:ext cx="7467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r" rtl="1">
              <a:lnSpc>
                <a:spcPct val="2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70c0"/>
                </a:solidFill>
                <a:latin typeface="Century Schoolbook"/>
              </a:rPr>
              <a:t>اقدامات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r" rtl="1">
              <a:lnSpc>
                <a:spcPct val="2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مراقبت های پیش از زایمان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r" rtl="1">
              <a:lnSpc>
                <a:spcPct val="2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تغذیه انحصاری با شیر ماد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r" rtl="1">
              <a:lnSpc>
                <a:spcPct val="2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تغذیه بهینه با شیر ماد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r" rtl="1">
              <a:lnSpc>
                <a:spcPct val="2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تامین مکمل های غذای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r" rtl="1">
              <a:lnSpc>
                <a:spcPct val="2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واکسیناسیون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r" rtl="1">
              <a:lnSpc>
                <a:spcPct val="2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آموزش و مشاوره در خصوص تعداد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و فاصله زایمان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r" rtl="1">
              <a:lnSpc>
                <a:spcPct val="2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838080" y="99072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70c0"/>
                </a:solidFill>
                <a:latin typeface="Century Schoolbook"/>
              </a:rPr>
              <a:t>بهداشت زنان و مادران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70c0"/>
                </a:solidFill>
                <a:latin typeface="Century Schoolbook"/>
              </a:rPr>
              <a:t>اهداف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2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بهبود تغذیه در دوران بارداری و شیرده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2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کاهش سقط های غیرایمن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2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ترویج بهداشت مادران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2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کاهش مرگ و میر مادران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685440" y="8380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70c0"/>
                </a:solidFill>
                <a:latin typeface="Century Schoolbook"/>
              </a:rPr>
              <a:t>اقدامات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2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Century Schoolbook"/>
              </a:rPr>
              <a:t>غربالگری زنان در معرض خطر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2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Century Schoolbook"/>
              </a:rPr>
              <a:t>آموزش و مشاوره به زنان  در زمینه های مختلف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2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Century Schoolbook"/>
              </a:rPr>
              <a:t>توجه خاص به تغذیه مادران باردار و شیرده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685440" y="9144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7030a0"/>
                </a:solidFill>
                <a:latin typeface="Century Schoolbook"/>
              </a:rPr>
              <a:t>جمعیت باز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جمعیتی که در افزایش یا کاهش آن علاوه بر موالید و مرگ و میر، مهاجرت (درون کوچی و برون کوچی) نیز تاثیر دار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7030a0"/>
                </a:solidFill>
                <a:latin typeface="Century Schoolbook"/>
              </a:rPr>
              <a:t>جمعیت بسته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جمعیتی که در افزایش یا کاهش آن مهاجرت (درون کوچی و برون کوچی) نقشی ندارد و تغییرات آن فقط از اختلاف زاد و ولد و مرگ و میر ناشی می شو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20570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600" spc="-1" strike="noStrike">
                <a:solidFill>
                  <a:srgbClr val="7598d9"/>
                </a:solidFill>
                <a:latin typeface="Century Schoolbook"/>
              </a:rPr>
              <a:t>تنظیم خانواده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761760" y="99072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70c0"/>
                </a:solidFill>
                <a:latin typeface="Century Schoolbook"/>
              </a:rPr>
              <a:t>تنظیم خانواده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برنامه ریزی زوجین جهت دستیابی به اهداف باروری به صورت 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</a:rPr>
              <a:t>آگاهانه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،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</a:rPr>
              <a:t> مسئولانه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و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</a:rPr>
              <a:t> داوطلبانه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تنظیم خانواده برنامه ریزی زوجین برای داشتن یک خانواده متناسب از نظر 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</a:rPr>
              <a:t>بهداشتی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، 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</a:rPr>
              <a:t>اقتصادی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، 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</a:rPr>
              <a:t>اجتماعی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 و 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</a:rPr>
              <a:t>فرهنگی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 است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761760" y="8380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70c0"/>
                </a:solidFill>
                <a:latin typeface="Century Schoolbook"/>
              </a:rPr>
              <a:t>اهداف برنامه تنظیم خانواده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کاهش میزان موالید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کنترل مهاجرت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حفظ محیط زیست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گسترش بهداشت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افزایش پوشش تحصیل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افزایش آگاهی های جمعیتی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آموزش بهداشت مادر و کودک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آموزش روابط جنسی سالم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بهبود موقعیت زنان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761760" y="8380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70c0"/>
                </a:solidFill>
                <a:latin typeface="Century Schoolbook"/>
              </a:rPr>
              <a:t>دستاوردها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2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میزان استفاده از روشهای پیشگیری از بارداری بیش از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7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 درصد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2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کاهش میزان مرگ و میر اطفال به کمتر از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29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 در هزا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2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افزایش میانه سنی جمعیت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2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رسیدن باروری کل به سطح جانشین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838080" y="838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70c0"/>
                </a:solidFill>
                <a:latin typeface="Century Schoolbook"/>
              </a:rPr>
              <a:t>چالشها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2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بیش از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2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 درصد حاملگی ها ناخواسته است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مشارکت ضعیف مردان در برنامه های تنظیم خانواده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ناتوانی در کنترل مهاجرت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میانگین سطح سواد پایین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افزایش بیکار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توزیع نامتعادل جمعیت در کشو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990360" y="76212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70c0"/>
                </a:solidFill>
                <a:latin typeface="Century Schoolbook"/>
              </a:rPr>
              <a:t>راهکارها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5520" indent="-24552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آموزش در خصوص ازدواج سالم، رعایت فاصله مناسب بین موالید، استفاده از شیر مادر برای تغذیه نوزادان و..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5520" indent="-24552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آموزش و ترویج استفاده از وسایل جلوگیری از باردار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5520" indent="-24552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ارتقا شرایط زندگی در مناطق دور افتاده و روستای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5520" indent="-24552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افزایش پوشش خدمات بهداشتی درمان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5520" indent="-24552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پوشش کامل سواد آموز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5520" indent="-24552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بالا بردن موقعیت زنان در جامعه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5520" indent="-24552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    قانون مند کردن مهاجرتهای خارج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685440" y="9144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تنظیم خانواده شامل موارد زیر می شود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2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تعیین حدود موالید به طور آگاهانه، مسئولانه و داوطلبانه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2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فاصله گذاری مناسب حاملگی ها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2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توقف فرزندآور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2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زایمان در زمان مقر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456840" y="838080"/>
            <a:ext cx="7924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70c0"/>
                </a:solidFill>
                <a:latin typeface="Century Schoolbook"/>
              </a:rPr>
              <a:t>تاریخچه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132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 توجه جمعیت شیر و خورشید سرخ به مسائل بهداشت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133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 تاسیس سازمان همکاری بهداشت بین الملل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1334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 تاسیس اداره بهداشت مادر و کودک در وزارت بهدار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1335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 ورود قرص های پیشگیری از بارداری و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U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1337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  تاسیس اولین درمانگاه تنظیم خانواده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1342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 توجه به تنظیم خانواده در برنامه  عمرانی دولت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1351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  تاسیس انستیتو تحقیقات بیولوژی تولیدمثل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1368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1357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137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685440" y="1066680"/>
            <a:ext cx="76201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r" rtl="1">
              <a:lnSpc>
                <a:spcPct val="2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70c0"/>
                </a:solidFill>
                <a:latin typeface="Century Schoolbook"/>
              </a:rPr>
              <a:t>اهمیت و ضرورت تنظیم خانواده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زنان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2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پیشگیری از بروز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40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میلیون حاملگی ناخواسته از سال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196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2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یک هشتم مرگ مادران به دلیل سقط و عوارض آن است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2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پیشگیری از حاملگی های پرخطر مرگ مادران را به یک چهارم تقلیل می دهد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838080" y="91440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کودکان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اگر فاصله بین تولدها دو سال باشد از مرگ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 تا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4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 میلیون کودک در سال جلوگیری می شو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فاصله تولد کمتر از دو سال احتمال مرگ کودک را دو برابر می کن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685440" y="10666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7030a0"/>
                </a:solidFill>
                <a:latin typeface="Century Schoolbook"/>
              </a:rPr>
              <a:t>جمعیت ثابت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جمعیت بسته ای است که برای مدت طولانی در معرض میزان های ثابت تولد ومرگ قرار گیرد و میزان افزایش سالیانه این جمعیت به سوی مقدار ثابتی میل می کن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7030a0"/>
                </a:solidFill>
                <a:latin typeface="Century Schoolbook"/>
              </a:rPr>
              <a:t>جمعیت متوقف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جمعیت بسته ای که در آن میزان افزایش طبیعی صفر است و میزان موالید و مرگ و میر مساوی است و در نتیجه جمعیت کلی ثابت است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685440" y="8380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70c0"/>
                </a:solidFill>
                <a:latin typeface="Century Schoolbook"/>
              </a:rPr>
              <a:t>اهداف نهایی تنظیم خانواده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70c0"/>
                </a:solidFill>
                <a:latin typeface="Century Schoolbook"/>
              </a:rPr>
              <a:t>توانمند سازی زوجین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Century Schoolbook"/>
              </a:rPr>
              <a:t>توانمند کردن زوجین در مورد انتخاب تعداد، فاصله گذاری و زمانبندی زایمانها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Century Schoolbook"/>
              </a:rPr>
              <a:t>توانمند کردن زنان در تصمیم گیری و برنامه ریزی باروری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Century Schoolbook"/>
              </a:rPr>
              <a:t>افزایش مشارکت و مسئولیت مردان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685440" y="9144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70c0"/>
                </a:solidFill>
                <a:latin typeface="Century Schoolbook"/>
              </a:rPr>
              <a:t>سلامت زنان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جلوگیری از بارداری های برنامه ریزی نشده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کاهش میزان بارداری های پرخط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کاهش سقط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پیشگیری از سوء تغذیه مادران از طریق فاصله گذاری مناسب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تغذیه با شیر ماد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کاهش مرگ و میر مادران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685440" y="9144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70c0"/>
                </a:solidFill>
                <a:latin typeface="Century Schoolbook"/>
              </a:rPr>
              <a:t>سلامت جنین و کودک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2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پیشگیری از سوء تغذیه کودک با فاصله گذاری مناسب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کاهش میزان اختلالات رشدی با فاصله گذاری و پیشگیری از زایمانهای زودرس، دیررس و یا پی در پ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کاهش میزان بیماریهای ژنتیک از طریق پیشگیری از زایمانهای دیررس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کاهش مرگ و میر کودکان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609480" y="10666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70c0"/>
                </a:solidFill>
                <a:latin typeface="Century Schoolbook"/>
              </a:rPr>
              <a:t>سلامت جامعه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پیشگیری از رشد ناموزون جمعیت با توجه به منابع اقتصادی و اجتماع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533160" y="10666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70c0"/>
                </a:solidFill>
                <a:latin typeface="Century Schoolbook"/>
              </a:rPr>
              <a:t>زوجین واجد شرایط تنظیم خانواده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هر زوجی که زن آن زوج در سنین باروری باشد (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15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 تا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49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 سال) واجد شرایط برای برنامه تنظیم خانواده است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اولویت اول: زوجینی که خانواده خود را کامل کرده اند و فرزند دیگری نمی خواهن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اولویت دوم: زوجینی که در مرحله فاصله گذاری هستن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838080" y="99072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70c0"/>
                </a:solidFill>
                <a:latin typeface="Century Schoolbook"/>
              </a:rPr>
              <a:t>حقوق باروری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تصمیم گیری آزادانه و مسئولانه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حق دسترسی به اطلاعات و ابزار مناسب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حق دسترسی به بالاترین معیارهای بهداشت بارور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تصمیم گیری عاری از تبعیض، فشار و خشونت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تصمیم گیری بر اساس احتیاجات فرزندان فعلی و آتی خود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تصمیم گیری بر اساس مسئولیتهای خود در قبال جامعه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761760" y="2209320"/>
            <a:ext cx="746748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3560" indent="-22356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0070c0"/>
                </a:solidFill>
                <a:latin typeface="Century Schoolbook"/>
              </a:rPr>
              <a:t>برنامه کشوری برای تنظیم خانواده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761760" y="99072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b0f0"/>
                </a:solidFill>
                <a:latin typeface="Century Schoolbook"/>
              </a:rPr>
              <a:t>محورهای برنامه تنظیم خانواده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2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آموزش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مشاوره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تامین، توزیع و ارائه روشهای پیشگیری از باردار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تحقیقات و مطالعات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نظارت، پایش و ارزشیاب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761760" y="99072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b0f0"/>
                </a:solidFill>
                <a:latin typeface="Century Schoolbook"/>
              </a:rPr>
              <a:t>آموزش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آموزشهای قبل از ازدواج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گنجاندن مطالب آموزشی در متون درسی دانش آموزان، دانشجویان و سربازان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آموزشهای حین ازدواج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آموزشهای بعد از ازدواج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آموزش به افراد در سنین باروری در محیط های مختلف شغلی و صنف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آموزش از طریق رسانه های جمع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838080" y="91440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b0f0"/>
                </a:solidFill>
                <a:latin typeface="Century Schoolbook"/>
              </a:rPr>
              <a:t>مشاوره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مراحل مشاوره تنظیم خانواده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- برخورد مودبانه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- دادن اطلاعات صحیح به مراجعه کننده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- انتخاب یک روش پیشگیری از سوی مراجعه کننده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4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- شرح دادن روش انتخاب شده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5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- تامین مستمر روش انتخاب شده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685440" y="8380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7598d9"/>
                </a:solidFill>
                <a:latin typeface="Century Schoolbook"/>
              </a:rPr>
              <a:t>فعالیتهای جمعیت شناسی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7030a0"/>
                </a:solidFill>
                <a:latin typeface="Century Schoolbook"/>
              </a:rPr>
              <a:t>جمعیت شناسی رسمی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مطالعه پدیده های صرفا جمعیت شناسانه (میزان موالید، نسبت سرباری، نسبت زنان در سنین فرزندآوری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7030a0"/>
                </a:solidFill>
                <a:latin typeface="Century Schoolbook"/>
              </a:rPr>
              <a:t>مطالعات جمعیتی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مطالعاتی که مسائل جمعیت شناسی را با سایر رشته ها پیوند می دهد ( تاثیر جمعیت بر بهداشت عمومی، محیط زیست، اقتصاد و...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761760" y="9144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b0f0"/>
                </a:solidFill>
                <a:latin typeface="Century Schoolbook"/>
              </a:rPr>
              <a:t>تامین، توزیع و ارائه روشهای پیشگیری از باردار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روش های طبیعی پیشگیری از باردار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روش های نوین پیشگیری از بارداری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قرصهای خوراک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روش تزریقی سه ماهه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روش کاشتن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آی یو د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کاندوم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بستن لوله در زن و مرد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609480" y="10666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70c0"/>
                </a:solidFill>
                <a:latin typeface="Century Schoolbook"/>
              </a:rPr>
              <a:t>روشهای طبیعی پیشگیری از باردار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 algn="r" rtl="1">
              <a:lnSpc>
                <a:spcPct val="2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نزدیکی منقط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 algn="r" rtl="1">
              <a:lnSpc>
                <a:spcPct val="2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روش دوره امن (تقویمی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 algn="r" rtl="1">
              <a:lnSpc>
                <a:spcPct val="2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روش درجه حرارت بدن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 algn="r" rtl="1">
              <a:lnSpc>
                <a:spcPct val="2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روش تغییرات مخاط دهانه رحم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 algn="r" rtl="1">
              <a:lnSpc>
                <a:spcPct val="2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روش شیرده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 algn="r" rtl="1">
              <a:lnSpc>
                <a:spcPct val="2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روش ترکیب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3" descr="image10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962520" y="990360"/>
            <a:ext cx="5410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entury Schoolbook"/>
                <a:cs typeface="B Nazanin"/>
              </a:rPr>
              <a:t>با تشکر از توجه شما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c62d2150-a5f2-4c54-9e01-132a71d00865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066680" y="2895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9600" spc="-1" strike="noStrike">
                <a:solidFill>
                  <a:srgbClr val="ffe636"/>
                </a:solidFill>
                <a:latin typeface="Century Schoolbook"/>
              </a:rPr>
              <a:t>پایان</a:t>
            </a:r>
            <a:endParaRPr b="0" lang="en-US" sz="96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685440" y="8380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جمعیت های انسانی از دو جنبه 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</a:rPr>
              <a:t>ساختار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(ترکیب) جمعیتی و 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</a:rPr>
              <a:t>حرکات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جمعیتی مورد مطالعه قرار می گیرن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685440" y="9144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7030a0"/>
                </a:solidFill>
                <a:latin typeface="Century Schoolbook"/>
              </a:rPr>
              <a:t>ساختار جمعیتی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معمولا با توجه به عواملی چون توزیع، سن، جنس، اشتغال، سطح سواد، خانوار، ازدواج و طلاق، قومیت و نژاد و... مورد بررسی قرار می گیر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7030a0"/>
                </a:solidFill>
                <a:latin typeface="Century Schoolbook"/>
              </a:rPr>
              <a:t>حرکات جمعیتی 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در سه قالب کلی 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</a:rPr>
              <a:t>زاد و ولد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، 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</a:rPr>
              <a:t>مرگ و میر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و 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</a:rPr>
              <a:t>مهاجرت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 مورد بررسی قرار می گیر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9T06:33:09Z</dcterms:created>
  <dc:creator>Mohsen Shoja</dc:creator>
  <dc:description/>
  <dc:language>en-US</dc:language>
  <cp:lastModifiedBy>MRT</cp:lastModifiedBy>
  <dcterms:modified xsi:type="dcterms:W3CDTF">2012-10-08T12:24:47Z</dcterms:modified>
  <cp:revision>86</cp:revision>
  <dc:subject/>
  <dc:title>بسم الله الرحمن الرحیم</dc:title>
</cp:coreProperties>
</file>